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gif" ContentType="image/gif"/>
  <Override PartName="/ppt/media/image8.gif" ContentType="image/gif"/>
  <Override PartName="/ppt/media/image19.wmf" ContentType="image/x-wmf"/>
  <Override PartName="/ppt/media/image7.gif" ContentType="image/gif"/>
  <Override PartName="/ppt/media/image18.wmf" ContentType="image/x-wmf"/>
  <Override PartName="/ppt/media/applause.wav" ContentType="audio/x-wav"/>
  <Override PartName="/ppt/media/image10.png" ContentType="image/png"/>
  <Override PartName="/ppt/media/breeze.wav" ContentType="audio/x-wav"/>
  <Override PartName="/ppt/media/image20.gif" ContentType="image/gif"/>
  <Override PartName="/ppt/media/image17.wmf" ContentType="image/x-wmf"/>
  <Override PartName="/ppt/media/image15.png" ContentType="image/png"/>
  <Override PartName="/ppt/media/image4.gif" ContentType="image/gif"/>
  <Override PartName="/ppt/media/image12.wmf" ContentType="image/x-wmf"/>
  <Override PartName="/ppt/media/image1.gif" ContentType="image/gif"/>
  <Override PartName="/ppt/media/image13.wmf" ContentType="image/x-wmf"/>
  <Override PartName="/ppt/media/image2.gif" ContentType="image/gif"/>
  <Override PartName="/ppt/media/image14.wmf" ContentType="image/x-wmf"/>
  <Override PartName="/ppt/media/image6.png" ContentType="image/png"/>
  <Override PartName="/ppt/media/bomb.wav" ContentType="audio/x-wav"/>
  <Override PartName="/ppt/media/image3.wmf" ContentType="image/x-wmf"/>
  <Override PartName="/ppt/media/image5.gif" ContentType="image/gif"/>
  <Override PartName="/ppt/media/image1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8EF2-3DB9-467D-85C7-C8AF67FC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3CC0-23C9-4D57-9C2C-D77216C3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7471-9C89-4282-9AF8-C062243D1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2570-0B55-4CB0-8A06-4FFDEFD95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EB5D-E17A-421B-B1E6-C8FDD5D5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AA34-897D-4051-A7F6-95F2079D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4B92-CC05-45A8-AFEE-71756C6C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7C2E-48A7-485E-B8A3-69839DD9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9B7D-97C7-47EF-9945-C9C3A93B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83BF-F3E9-4382-BD7A-5E998570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7656-B2BD-4F0C-9CB5-5E631A60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8BE5-29C9-4397-8029-F5F1A918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5AD9-0361-4ACB-91D4-C82862EAE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209680"/>
            <a:ext cx="88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Cause / Effec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2667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nna Bur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Gra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lden Acres Elemen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90920" y="0"/>
            <a:ext cx="40878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3520" y="380880"/>
            <a:ext cx="8153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The boy knew the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so he raised his ha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838080" y="5410080"/>
            <a:ext cx="1981440" cy="914400"/>
          </a:xfrm>
          <a:custGeom>
            <a:avLst/>
            <a:gdLst>
              <a:gd name="textAreaLeft" fmla="*/ 59040 w 1981440"/>
              <a:gd name="textAreaRight" fmla="*/ 1922400 w 19814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6248520" y="5410080"/>
            <a:ext cx="1981080" cy="914400"/>
          </a:xfrm>
          <a:custGeom>
            <a:avLst/>
            <a:gdLst>
              <a:gd name="textAreaLeft" fmla="*/ 59040 w 1981080"/>
              <a:gd name="textAreaRight" fmla="*/ 1922040 w 19810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6787" h="21600">
                <a:moveTo>
                  <a:pt x="0" y="0"/>
                </a:moveTo>
                <a:lnTo>
                  <a:pt x="46787" y="0"/>
                </a:lnTo>
                <a:lnTo>
                  <a:pt x="46787" y="21600"/>
                </a:lnTo>
                <a:lnTo>
                  <a:pt x="0" y="21600"/>
                </a:lnTo>
                <a:close/>
              </a:path>
              <a:path fill="lightenLess" w="46787" h="21600">
                <a:moveTo>
                  <a:pt x="0" y="0"/>
                </a:moveTo>
                <a:lnTo>
                  <a:pt x="46787" y="0"/>
                </a:lnTo>
                <a:lnTo>
                  <a:pt x="45387" y="1400"/>
                </a:lnTo>
                <a:lnTo>
                  <a:pt x="1400" y="1400"/>
                </a:lnTo>
                <a:close/>
              </a:path>
              <a:path fill="darken" w="46787" h="21600">
                <a:moveTo>
                  <a:pt x="46787" y="0"/>
                </a:moveTo>
                <a:lnTo>
                  <a:pt x="46787" y="21600"/>
                </a:lnTo>
                <a:lnTo>
                  <a:pt x="45387" y="20200"/>
                </a:lnTo>
                <a:lnTo>
                  <a:pt x="45387" y="1400"/>
                </a:lnTo>
                <a:close/>
              </a:path>
              <a:path fill="darkenLess" w="46787" h="21600">
                <a:moveTo>
                  <a:pt x="46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7" y="20200"/>
                </a:lnTo>
                <a:close/>
              </a:path>
              <a:path fill="lighten" w="46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56386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5562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380880"/>
            <a:ext cx="8077320" cy="914400"/>
          </a:xfrm>
          <a:prstGeom prst="rect">
            <a:avLst/>
          </a:prstGeom>
          <a:noFill/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129360" cy="410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8600" y="0"/>
            <a:ext cx="85345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When the child was bored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he tapped his fing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2133720" y="5638680"/>
            <a:ext cx="1904760" cy="914400"/>
          </a:xfrm>
          <a:custGeom>
            <a:avLst/>
            <a:gdLst>
              <a:gd name="textAreaLeft" fmla="*/ 59040 w 1904760"/>
              <a:gd name="textAreaRight" fmla="*/ 1845720 w 19047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85" h="21600">
                <a:moveTo>
                  <a:pt x="0" y="0"/>
                </a:moveTo>
                <a:lnTo>
                  <a:pt x="44985" y="0"/>
                </a:lnTo>
                <a:lnTo>
                  <a:pt x="44985" y="21600"/>
                </a:lnTo>
                <a:lnTo>
                  <a:pt x="0" y="21600"/>
                </a:lnTo>
                <a:close/>
              </a:path>
              <a:path fill="lightenLess" w="44985" h="21600">
                <a:moveTo>
                  <a:pt x="0" y="0"/>
                </a:moveTo>
                <a:lnTo>
                  <a:pt x="44985" y="0"/>
                </a:lnTo>
                <a:lnTo>
                  <a:pt x="43585" y="1400"/>
                </a:lnTo>
                <a:lnTo>
                  <a:pt x="1400" y="1400"/>
                </a:lnTo>
                <a:close/>
              </a:path>
              <a:path fill="darken" w="44985" h="21600">
                <a:moveTo>
                  <a:pt x="44985" y="0"/>
                </a:moveTo>
                <a:lnTo>
                  <a:pt x="44985" y="21600"/>
                </a:lnTo>
                <a:lnTo>
                  <a:pt x="43585" y="20200"/>
                </a:lnTo>
                <a:lnTo>
                  <a:pt x="43585" y="1400"/>
                </a:lnTo>
                <a:close/>
              </a:path>
              <a:path fill="darkenLess" w="44985" h="21600">
                <a:moveTo>
                  <a:pt x="449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85" y="20200"/>
                </a:lnTo>
                <a:close/>
              </a:path>
              <a:path fill="lighten" w="449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5867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563868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58672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9756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724280" y="457200"/>
            <a:ext cx="4114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They wanted a drink because the sun was ho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5181480" y="457200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724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7010280" y="45720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86600" y="4724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81480" y="457200"/>
            <a:ext cx="3124440" cy="20574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-685800" y="3886200"/>
          <a:ext cx="30492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685800" y="388620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220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553080" cy="4494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" y="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Click on the ca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1066680"/>
            <a:ext cx="55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The kid fel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586728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because of the wa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914400" y="114300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10800" y="1839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8789">
                <a:moveTo>
                  <a:pt x="11905" y="17876"/>
                </a:moveTo>
                <a:lnTo>
                  <a:pt x="11905" y="15917"/>
                </a:lnTo>
                <a:cubicBezTo>
                  <a:pt x="11905" y="15091"/>
                  <a:pt x="12236" y="14394"/>
                  <a:pt x="12837" y="14394"/>
                </a:cubicBezTo>
                <a:cubicBezTo>
                  <a:pt x="13968" y="14394"/>
                  <a:pt x="14865" y="13028"/>
                  <a:pt x="14865" y="11444"/>
                </a:cubicBezTo>
                <a:cubicBezTo>
                  <a:pt x="14865" y="9129"/>
                  <a:pt x="13011" y="7388"/>
                  <a:pt x="10800" y="7388"/>
                </a:cubicBezTo>
                <a:cubicBezTo>
                  <a:pt x="8589" y="7388"/>
                  <a:pt x="6918" y="9129"/>
                  <a:pt x="6918" y="11444"/>
                </a:cubicBezTo>
                <a:lnTo>
                  <a:pt x="8772" y="11444"/>
                </a:lnTo>
                <a:cubicBezTo>
                  <a:pt x="8772" y="10304"/>
                  <a:pt x="9695" y="9416"/>
                  <a:pt x="10800" y="9416"/>
                </a:cubicBezTo>
                <a:cubicBezTo>
                  <a:pt x="11905" y="9416"/>
                  <a:pt x="12837" y="10304"/>
                  <a:pt x="12837" y="11444"/>
                </a:cubicBezTo>
                <a:cubicBezTo>
                  <a:pt x="12837" y="12184"/>
                  <a:pt x="12367" y="12915"/>
                  <a:pt x="11905" y="12915"/>
                </a:cubicBezTo>
                <a:cubicBezTo>
                  <a:pt x="10800" y="12915"/>
                  <a:pt x="9695" y="14394"/>
                  <a:pt x="9695" y="15917"/>
                </a:cubicBezTo>
                <a:lnTo>
                  <a:pt x="9695" y="1787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nextslide"/>
          </p:cNvPr>
          <p:cNvSpPr/>
          <p:nvPr/>
        </p:nvSpPr>
        <p:spPr>
          <a:xfrm>
            <a:off x="838080" y="58672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  <a:path fill="darken" w="21600" h="28806">
                <a:moveTo>
                  <a:pt x="10800" y="1840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8806">
                <a:moveTo>
                  <a:pt x="11905" y="17884"/>
                </a:moveTo>
                <a:lnTo>
                  <a:pt x="11905" y="15926"/>
                </a:lnTo>
                <a:cubicBezTo>
                  <a:pt x="11905" y="15099"/>
                  <a:pt x="12236" y="14403"/>
                  <a:pt x="12837" y="14403"/>
                </a:cubicBezTo>
                <a:cubicBezTo>
                  <a:pt x="13968" y="14403"/>
                  <a:pt x="14865" y="13036"/>
                  <a:pt x="14865" y="11452"/>
                </a:cubicBezTo>
                <a:cubicBezTo>
                  <a:pt x="14865" y="9137"/>
                  <a:pt x="13011" y="7396"/>
                  <a:pt x="10800" y="7396"/>
                </a:cubicBezTo>
                <a:cubicBezTo>
                  <a:pt x="8589" y="7396"/>
                  <a:pt x="6918" y="9137"/>
                  <a:pt x="6918" y="11452"/>
                </a:cubicBezTo>
                <a:lnTo>
                  <a:pt x="8772" y="11452"/>
                </a:lnTo>
                <a:cubicBezTo>
                  <a:pt x="8772" y="10312"/>
                  <a:pt x="9695" y="9424"/>
                  <a:pt x="10800" y="9424"/>
                </a:cubicBezTo>
                <a:cubicBezTo>
                  <a:pt x="11905" y="9424"/>
                  <a:pt x="12837" y="10312"/>
                  <a:pt x="12837" y="11452"/>
                </a:cubicBezTo>
                <a:cubicBezTo>
                  <a:pt x="12837" y="12192"/>
                  <a:pt x="12367" y="12923"/>
                  <a:pt x="11905" y="12923"/>
                </a:cubicBezTo>
                <a:cubicBezTo>
                  <a:pt x="10800" y="12923"/>
                  <a:pt x="9695" y="14403"/>
                  <a:pt x="9695" y="15926"/>
                </a:cubicBezTo>
                <a:lnTo>
                  <a:pt x="9695" y="178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-838080" y="3962520"/>
          <a:ext cx="60948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838080" y="3962520"/>
                    <a:ext cx="609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236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7391520" cy="3951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69120" y="23652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Click on the eff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4648320"/>
            <a:ext cx="6781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She hurt her knee when she fell dow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838080" y="48006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943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8876" h="21600">
                <a:moveTo>
                  <a:pt x="20543" y="14281"/>
                </a:moveTo>
                <a:lnTo>
                  <a:pt x="20543" y="12323"/>
                </a:lnTo>
                <a:cubicBezTo>
                  <a:pt x="20543" y="11496"/>
                  <a:pt x="20874" y="10800"/>
                  <a:pt x="21475" y="10800"/>
                </a:cubicBezTo>
                <a:cubicBezTo>
                  <a:pt x="22606" y="10800"/>
                  <a:pt x="23503" y="9434"/>
                  <a:pt x="23503" y="7849"/>
                </a:cubicBezTo>
                <a:cubicBezTo>
                  <a:pt x="23503" y="5534"/>
                  <a:pt x="21649" y="3794"/>
                  <a:pt x="19438" y="3794"/>
                </a:cubicBezTo>
                <a:cubicBezTo>
                  <a:pt x="17227" y="3794"/>
                  <a:pt x="15556" y="5534"/>
                  <a:pt x="15556" y="7849"/>
                </a:cubicBezTo>
                <a:lnTo>
                  <a:pt x="17410" y="7849"/>
                </a:lnTo>
                <a:cubicBezTo>
                  <a:pt x="17410" y="6709"/>
                  <a:pt x="18333" y="5821"/>
                  <a:pt x="19438" y="5821"/>
                </a:cubicBezTo>
                <a:cubicBezTo>
                  <a:pt x="20543" y="5821"/>
                  <a:pt x="21475" y="6709"/>
                  <a:pt x="21475" y="7849"/>
                </a:cubicBezTo>
                <a:cubicBezTo>
                  <a:pt x="21475" y="8589"/>
                  <a:pt x="21005" y="9320"/>
                  <a:pt x="20543" y="9320"/>
                </a:cubicBezTo>
                <a:cubicBezTo>
                  <a:pt x="19438" y="9320"/>
                  <a:pt x="18333" y="10800"/>
                  <a:pt x="18333" y="12323"/>
                </a:cubicBezTo>
                <a:lnTo>
                  <a:pt x="18333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2" action="ppaction://hlinksldjump"/>
          </p:cNvPr>
          <p:cNvSpPr/>
          <p:nvPr/>
        </p:nvSpPr>
        <p:spPr>
          <a:xfrm>
            <a:off x="838080" y="55627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943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8876" h="21600">
                <a:moveTo>
                  <a:pt x="20543" y="14281"/>
                </a:moveTo>
                <a:lnTo>
                  <a:pt x="20543" y="12323"/>
                </a:lnTo>
                <a:cubicBezTo>
                  <a:pt x="20543" y="11496"/>
                  <a:pt x="20874" y="10800"/>
                  <a:pt x="21475" y="10800"/>
                </a:cubicBezTo>
                <a:cubicBezTo>
                  <a:pt x="22606" y="10800"/>
                  <a:pt x="23503" y="9434"/>
                  <a:pt x="23503" y="7849"/>
                </a:cubicBezTo>
                <a:cubicBezTo>
                  <a:pt x="23503" y="5534"/>
                  <a:pt x="21649" y="3794"/>
                  <a:pt x="19438" y="3794"/>
                </a:cubicBezTo>
                <a:cubicBezTo>
                  <a:pt x="17227" y="3794"/>
                  <a:pt x="15556" y="5534"/>
                  <a:pt x="15556" y="7849"/>
                </a:cubicBezTo>
                <a:lnTo>
                  <a:pt x="17410" y="7849"/>
                </a:lnTo>
                <a:cubicBezTo>
                  <a:pt x="17410" y="6709"/>
                  <a:pt x="18333" y="5821"/>
                  <a:pt x="19438" y="5821"/>
                </a:cubicBezTo>
                <a:cubicBezTo>
                  <a:pt x="20543" y="5821"/>
                  <a:pt x="21475" y="6709"/>
                  <a:pt x="21475" y="7849"/>
                </a:cubicBezTo>
                <a:cubicBezTo>
                  <a:pt x="21475" y="8589"/>
                  <a:pt x="21005" y="9320"/>
                  <a:pt x="20543" y="9320"/>
                </a:cubicBezTo>
                <a:cubicBezTo>
                  <a:pt x="19438" y="9320"/>
                  <a:pt x="18333" y="10800"/>
                  <a:pt x="18333" y="12323"/>
                </a:cubicBezTo>
                <a:lnTo>
                  <a:pt x="18333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"/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09680" y="60948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Cause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28600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ff"/>
                </a:solidFill>
                <a:latin typeface="Arial"/>
              </a:rPr>
              <a:t>what makes something happen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453200" cy="4724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40520" y="46512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Click on the eff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5181480"/>
            <a:ext cx="693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e grabbed his head when he started to fall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609480" y="54100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727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4540" h="21600">
                <a:moveTo>
                  <a:pt x="18375" y="14281"/>
                </a:moveTo>
                <a:lnTo>
                  <a:pt x="18375" y="12323"/>
                </a:lnTo>
                <a:cubicBezTo>
                  <a:pt x="18375" y="11496"/>
                  <a:pt x="18706" y="10800"/>
                  <a:pt x="19306" y="10800"/>
                </a:cubicBezTo>
                <a:cubicBezTo>
                  <a:pt x="20438" y="10800"/>
                  <a:pt x="21334" y="9434"/>
                  <a:pt x="21334" y="7849"/>
                </a:cubicBezTo>
                <a:cubicBezTo>
                  <a:pt x="21334" y="5534"/>
                  <a:pt x="19481" y="3794"/>
                  <a:pt x="17270" y="3794"/>
                </a:cubicBezTo>
                <a:cubicBezTo>
                  <a:pt x="15059" y="3794"/>
                  <a:pt x="13388" y="5534"/>
                  <a:pt x="13388" y="7849"/>
                </a:cubicBezTo>
                <a:lnTo>
                  <a:pt x="15242" y="7849"/>
                </a:lnTo>
                <a:cubicBezTo>
                  <a:pt x="15242" y="6709"/>
                  <a:pt x="16164" y="5821"/>
                  <a:pt x="17270" y="5821"/>
                </a:cubicBezTo>
                <a:cubicBezTo>
                  <a:pt x="18375" y="5821"/>
                  <a:pt x="19306" y="6709"/>
                  <a:pt x="19306" y="7849"/>
                </a:cubicBezTo>
                <a:cubicBezTo>
                  <a:pt x="19306" y="8589"/>
                  <a:pt x="18836" y="9320"/>
                  <a:pt x="18375" y="9320"/>
                </a:cubicBezTo>
                <a:cubicBezTo>
                  <a:pt x="17270" y="9320"/>
                  <a:pt x="16164" y="10800"/>
                  <a:pt x="16164" y="12323"/>
                </a:cubicBezTo>
                <a:lnTo>
                  <a:pt x="16164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609480" y="60958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727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4540" h="21600">
                <a:moveTo>
                  <a:pt x="18375" y="14281"/>
                </a:moveTo>
                <a:lnTo>
                  <a:pt x="18375" y="12323"/>
                </a:lnTo>
                <a:cubicBezTo>
                  <a:pt x="18375" y="11496"/>
                  <a:pt x="18706" y="10800"/>
                  <a:pt x="19306" y="10800"/>
                </a:cubicBezTo>
                <a:cubicBezTo>
                  <a:pt x="20438" y="10800"/>
                  <a:pt x="21334" y="9434"/>
                  <a:pt x="21334" y="7849"/>
                </a:cubicBezTo>
                <a:cubicBezTo>
                  <a:pt x="21334" y="5534"/>
                  <a:pt x="19481" y="3794"/>
                  <a:pt x="17270" y="3794"/>
                </a:cubicBezTo>
                <a:cubicBezTo>
                  <a:pt x="15059" y="3794"/>
                  <a:pt x="13388" y="5534"/>
                  <a:pt x="13388" y="7849"/>
                </a:cubicBezTo>
                <a:lnTo>
                  <a:pt x="15242" y="7849"/>
                </a:lnTo>
                <a:cubicBezTo>
                  <a:pt x="15242" y="6709"/>
                  <a:pt x="16164" y="5821"/>
                  <a:pt x="17270" y="5821"/>
                </a:cubicBezTo>
                <a:cubicBezTo>
                  <a:pt x="18375" y="5821"/>
                  <a:pt x="19306" y="6709"/>
                  <a:pt x="19306" y="7849"/>
                </a:cubicBezTo>
                <a:cubicBezTo>
                  <a:pt x="19306" y="8589"/>
                  <a:pt x="18836" y="9320"/>
                  <a:pt x="18375" y="9320"/>
                </a:cubicBezTo>
                <a:cubicBezTo>
                  <a:pt x="17270" y="9320"/>
                  <a:pt x="16164" y="10800"/>
                  <a:pt x="16164" y="12323"/>
                </a:cubicBezTo>
                <a:lnTo>
                  <a:pt x="16164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86200" y="380880"/>
            <a:ext cx="4379760" cy="4419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995400" y="517680"/>
            <a:ext cx="23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Click on the ca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4724280"/>
            <a:ext cx="6019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e screamed w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e flew up in the 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1295280" y="4876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1235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704" h="21600">
                <a:moveTo>
                  <a:pt x="13458" y="14281"/>
                </a:moveTo>
                <a:lnTo>
                  <a:pt x="13458" y="12323"/>
                </a:lnTo>
                <a:cubicBezTo>
                  <a:pt x="13458" y="11496"/>
                  <a:pt x="13788" y="10800"/>
                  <a:pt x="14389" y="10800"/>
                </a:cubicBezTo>
                <a:cubicBezTo>
                  <a:pt x="15520" y="10800"/>
                  <a:pt x="16417" y="9434"/>
                  <a:pt x="16417" y="7849"/>
                </a:cubicBezTo>
                <a:cubicBezTo>
                  <a:pt x="16417" y="5534"/>
                  <a:pt x="14563" y="3794"/>
                  <a:pt x="12352" y="3794"/>
                </a:cubicBezTo>
                <a:cubicBezTo>
                  <a:pt x="10141" y="3794"/>
                  <a:pt x="8470" y="5534"/>
                  <a:pt x="8470" y="7849"/>
                </a:cubicBezTo>
                <a:lnTo>
                  <a:pt x="10324" y="7849"/>
                </a:lnTo>
                <a:cubicBezTo>
                  <a:pt x="10324" y="6709"/>
                  <a:pt x="11247" y="5821"/>
                  <a:pt x="12352" y="5821"/>
                </a:cubicBezTo>
                <a:cubicBezTo>
                  <a:pt x="13458" y="5821"/>
                  <a:pt x="14389" y="6709"/>
                  <a:pt x="14389" y="7849"/>
                </a:cubicBezTo>
                <a:cubicBezTo>
                  <a:pt x="14389" y="8589"/>
                  <a:pt x="13919" y="9320"/>
                  <a:pt x="13458" y="9320"/>
                </a:cubicBezTo>
                <a:cubicBezTo>
                  <a:pt x="12352" y="9320"/>
                  <a:pt x="11247" y="10800"/>
                  <a:pt x="11247" y="12323"/>
                </a:cubicBezTo>
                <a:lnTo>
                  <a:pt x="11247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1295280" y="57913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1235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704" h="21600">
                <a:moveTo>
                  <a:pt x="13458" y="14281"/>
                </a:moveTo>
                <a:lnTo>
                  <a:pt x="13458" y="12323"/>
                </a:lnTo>
                <a:cubicBezTo>
                  <a:pt x="13458" y="11496"/>
                  <a:pt x="13788" y="10800"/>
                  <a:pt x="14389" y="10800"/>
                </a:cubicBezTo>
                <a:cubicBezTo>
                  <a:pt x="15520" y="10800"/>
                  <a:pt x="16417" y="9434"/>
                  <a:pt x="16417" y="7849"/>
                </a:cubicBezTo>
                <a:cubicBezTo>
                  <a:pt x="16417" y="5534"/>
                  <a:pt x="14563" y="3794"/>
                  <a:pt x="12352" y="3794"/>
                </a:cubicBezTo>
                <a:cubicBezTo>
                  <a:pt x="10141" y="3794"/>
                  <a:pt x="8470" y="5534"/>
                  <a:pt x="8470" y="7849"/>
                </a:cubicBezTo>
                <a:lnTo>
                  <a:pt x="10324" y="7849"/>
                </a:lnTo>
                <a:cubicBezTo>
                  <a:pt x="10324" y="6709"/>
                  <a:pt x="11247" y="5821"/>
                  <a:pt x="12352" y="5821"/>
                </a:cubicBezTo>
                <a:cubicBezTo>
                  <a:pt x="13458" y="5821"/>
                  <a:pt x="14389" y="6709"/>
                  <a:pt x="14389" y="7849"/>
                </a:cubicBezTo>
                <a:cubicBezTo>
                  <a:pt x="14389" y="8589"/>
                  <a:pt x="13919" y="9320"/>
                  <a:pt x="13458" y="9320"/>
                </a:cubicBezTo>
                <a:cubicBezTo>
                  <a:pt x="12352" y="9320"/>
                  <a:pt x="11247" y="10800"/>
                  <a:pt x="11247" y="12323"/>
                </a:cubicBezTo>
                <a:lnTo>
                  <a:pt x="11247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124080" y="990720"/>
            <a:ext cx="4648320" cy="3754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17280" y="441360"/>
            <a:ext cx="237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Click on the ef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81080" y="4572000"/>
            <a:ext cx="7162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He was late for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so he ra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914400" y="47242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1542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849" h="21600">
                <a:moveTo>
                  <a:pt x="16530" y="14281"/>
                </a:moveTo>
                <a:lnTo>
                  <a:pt x="16530" y="12323"/>
                </a:lnTo>
                <a:cubicBezTo>
                  <a:pt x="16530" y="11496"/>
                  <a:pt x="16861" y="10800"/>
                  <a:pt x="17461" y="10800"/>
                </a:cubicBezTo>
                <a:cubicBezTo>
                  <a:pt x="18593" y="10800"/>
                  <a:pt x="19489" y="9434"/>
                  <a:pt x="19489" y="7849"/>
                </a:cubicBezTo>
                <a:cubicBezTo>
                  <a:pt x="19489" y="5534"/>
                  <a:pt x="17635" y="3794"/>
                  <a:pt x="15424" y="3794"/>
                </a:cubicBezTo>
                <a:cubicBezTo>
                  <a:pt x="13214" y="3794"/>
                  <a:pt x="11543" y="5534"/>
                  <a:pt x="11543" y="7849"/>
                </a:cubicBezTo>
                <a:lnTo>
                  <a:pt x="13396" y="7849"/>
                </a:lnTo>
                <a:cubicBezTo>
                  <a:pt x="13396" y="6709"/>
                  <a:pt x="14319" y="5821"/>
                  <a:pt x="15424" y="5821"/>
                </a:cubicBezTo>
                <a:cubicBezTo>
                  <a:pt x="16530" y="5821"/>
                  <a:pt x="17461" y="6709"/>
                  <a:pt x="17461" y="7849"/>
                </a:cubicBezTo>
                <a:cubicBezTo>
                  <a:pt x="17461" y="8589"/>
                  <a:pt x="16991" y="9320"/>
                  <a:pt x="16530" y="9320"/>
                </a:cubicBezTo>
                <a:cubicBezTo>
                  <a:pt x="15424" y="9320"/>
                  <a:pt x="14319" y="10800"/>
                  <a:pt x="14319" y="12323"/>
                </a:cubicBezTo>
                <a:lnTo>
                  <a:pt x="14319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914400" y="56386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1542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849" h="21600">
                <a:moveTo>
                  <a:pt x="16530" y="14281"/>
                </a:moveTo>
                <a:lnTo>
                  <a:pt x="16530" y="12323"/>
                </a:lnTo>
                <a:cubicBezTo>
                  <a:pt x="16530" y="11496"/>
                  <a:pt x="16861" y="10800"/>
                  <a:pt x="17461" y="10800"/>
                </a:cubicBezTo>
                <a:cubicBezTo>
                  <a:pt x="18593" y="10800"/>
                  <a:pt x="19489" y="9434"/>
                  <a:pt x="19489" y="7849"/>
                </a:cubicBezTo>
                <a:cubicBezTo>
                  <a:pt x="19489" y="5534"/>
                  <a:pt x="17635" y="3794"/>
                  <a:pt x="15424" y="3794"/>
                </a:cubicBezTo>
                <a:cubicBezTo>
                  <a:pt x="13214" y="3794"/>
                  <a:pt x="11543" y="5534"/>
                  <a:pt x="11543" y="7849"/>
                </a:cubicBezTo>
                <a:lnTo>
                  <a:pt x="13396" y="7849"/>
                </a:lnTo>
                <a:cubicBezTo>
                  <a:pt x="13396" y="6709"/>
                  <a:pt x="14319" y="5821"/>
                  <a:pt x="15424" y="5821"/>
                </a:cubicBezTo>
                <a:cubicBezTo>
                  <a:pt x="16530" y="5821"/>
                  <a:pt x="17461" y="6709"/>
                  <a:pt x="17461" y="7849"/>
                </a:cubicBezTo>
                <a:cubicBezTo>
                  <a:pt x="17461" y="8589"/>
                  <a:pt x="16991" y="9320"/>
                  <a:pt x="16530" y="9320"/>
                </a:cubicBezTo>
                <a:cubicBezTo>
                  <a:pt x="15424" y="9320"/>
                  <a:pt x="14319" y="10800"/>
                  <a:pt x="14319" y="12323"/>
                </a:cubicBezTo>
                <a:lnTo>
                  <a:pt x="14319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76520" y="2724120"/>
            <a:ext cx="5638680" cy="41338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071360" y="289080"/>
            <a:ext cx="23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Click on the ca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220968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The girl cr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2209680"/>
            <a:ext cx="396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when she fell dow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1295280" y="403848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132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405" h="21600">
                <a:moveTo>
                  <a:pt x="14308" y="14281"/>
                </a:moveTo>
                <a:lnTo>
                  <a:pt x="14308" y="12323"/>
                </a:lnTo>
                <a:cubicBezTo>
                  <a:pt x="14308" y="11496"/>
                  <a:pt x="14639" y="10800"/>
                  <a:pt x="15239" y="10800"/>
                </a:cubicBezTo>
                <a:cubicBezTo>
                  <a:pt x="16371" y="10800"/>
                  <a:pt x="17267" y="9434"/>
                  <a:pt x="17267" y="7849"/>
                </a:cubicBezTo>
                <a:cubicBezTo>
                  <a:pt x="17267" y="5534"/>
                  <a:pt x="15413" y="3794"/>
                  <a:pt x="13203" y="3794"/>
                </a:cubicBezTo>
                <a:cubicBezTo>
                  <a:pt x="10992" y="3794"/>
                  <a:pt x="9321" y="5534"/>
                  <a:pt x="9321" y="7849"/>
                </a:cubicBezTo>
                <a:lnTo>
                  <a:pt x="11175" y="7849"/>
                </a:lnTo>
                <a:cubicBezTo>
                  <a:pt x="11175" y="6709"/>
                  <a:pt x="12097" y="5821"/>
                  <a:pt x="13203" y="5821"/>
                </a:cubicBezTo>
                <a:cubicBezTo>
                  <a:pt x="14308" y="5821"/>
                  <a:pt x="15239" y="6709"/>
                  <a:pt x="15239" y="7849"/>
                </a:cubicBezTo>
                <a:cubicBezTo>
                  <a:pt x="15239" y="8589"/>
                  <a:pt x="14769" y="9320"/>
                  <a:pt x="14308" y="9320"/>
                </a:cubicBezTo>
                <a:cubicBezTo>
                  <a:pt x="13203" y="9320"/>
                  <a:pt x="12097" y="10800"/>
                  <a:pt x="12097" y="12323"/>
                </a:cubicBezTo>
                <a:lnTo>
                  <a:pt x="12097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7315200" y="403848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429000" y="609480"/>
            <a:ext cx="4560840" cy="30434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917280" y="365040"/>
            <a:ext cx="237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Click on the ef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3962520"/>
            <a:ext cx="6858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It was harder to s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when the little guy hitchhik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685800" y="403848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59" h="21600">
                <a:moveTo>
                  <a:pt x="2312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6259" h="21600">
                <a:moveTo>
                  <a:pt x="24235" y="14281"/>
                </a:moveTo>
                <a:lnTo>
                  <a:pt x="24235" y="12323"/>
                </a:lnTo>
                <a:cubicBezTo>
                  <a:pt x="24235" y="11496"/>
                  <a:pt x="24565" y="10800"/>
                  <a:pt x="25166" y="10800"/>
                </a:cubicBezTo>
                <a:cubicBezTo>
                  <a:pt x="26297" y="10800"/>
                  <a:pt x="27194" y="9434"/>
                  <a:pt x="27194" y="7849"/>
                </a:cubicBezTo>
                <a:cubicBezTo>
                  <a:pt x="27194" y="5534"/>
                  <a:pt x="25340" y="3794"/>
                  <a:pt x="23129" y="3794"/>
                </a:cubicBezTo>
                <a:cubicBezTo>
                  <a:pt x="20919" y="3794"/>
                  <a:pt x="19247" y="5534"/>
                  <a:pt x="19247" y="7849"/>
                </a:cubicBezTo>
                <a:lnTo>
                  <a:pt x="21101" y="7849"/>
                </a:lnTo>
                <a:cubicBezTo>
                  <a:pt x="21101" y="6709"/>
                  <a:pt x="22024" y="5821"/>
                  <a:pt x="23129" y="5821"/>
                </a:cubicBezTo>
                <a:cubicBezTo>
                  <a:pt x="24235" y="5821"/>
                  <a:pt x="25166" y="6709"/>
                  <a:pt x="25166" y="7849"/>
                </a:cubicBezTo>
                <a:cubicBezTo>
                  <a:pt x="25166" y="8589"/>
                  <a:pt x="24696" y="9320"/>
                  <a:pt x="24235" y="9320"/>
                </a:cubicBezTo>
                <a:cubicBezTo>
                  <a:pt x="23129" y="9320"/>
                  <a:pt x="22024" y="10800"/>
                  <a:pt x="22024" y="12323"/>
                </a:cubicBezTo>
                <a:lnTo>
                  <a:pt x="22024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518148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59" h="21600">
                <a:moveTo>
                  <a:pt x="2312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6259" h="21600">
                <a:moveTo>
                  <a:pt x="24235" y="14281"/>
                </a:moveTo>
                <a:lnTo>
                  <a:pt x="24235" y="12323"/>
                </a:lnTo>
                <a:cubicBezTo>
                  <a:pt x="24235" y="11496"/>
                  <a:pt x="24565" y="10800"/>
                  <a:pt x="25166" y="10800"/>
                </a:cubicBezTo>
                <a:cubicBezTo>
                  <a:pt x="26297" y="10800"/>
                  <a:pt x="27194" y="9434"/>
                  <a:pt x="27194" y="7849"/>
                </a:cubicBezTo>
                <a:cubicBezTo>
                  <a:pt x="27194" y="5534"/>
                  <a:pt x="25340" y="3794"/>
                  <a:pt x="23129" y="3794"/>
                </a:cubicBezTo>
                <a:cubicBezTo>
                  <a:pt x="20919" y="3794"/>
                  <a:pt x="19247" y="5534"/>
                  <a:pt x="19247" y="7849"/>
                </a:cubicBezTo>
                <a:lnTo>
                  <a:pt x="21101" y="7849"/>
                </a:lnTo>
                <a:cubicBezTo>
                  <a:pt x="21101" y="6709"/>
                  <a:pt x="22024" y="5821"/>
                  <a:pt x="23129" y="5821"/>
                </a:cubicBezTo>
                <a:cubicBezTo>
                  <a:pt x="24235" y="5821"/>
                  <a:pt x="25166" y="6709"/>
                  <a:pt x="25166" y="7849"/>
                </a:cubicBezTo>
                <a:cubicBezTo>
                  <a:pt x="25166" y="8589"/>
                  <a:pt x="24696" y="9320"/>
                  <a:pt x="24235" y="9320"/>
                </a:cubicBezTo>
                <a:cubicBezTo>
                  <a:pt x="23129" y="9320"/>
                  <a:pt x="22024" y="10800"/>
                  <a:pt x="22024" y="12323"/>
                </a:cubicBezTo>
                <a:lnTo>
                  <a:pt x="22024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-609480" y="2743200"/>
          <a:ext cx="30456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09480" y="2743200"/>
                    <a:ext cx="3045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302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12200" y="914400"/>
            <a:ext cx="47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Effect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2819520"/>
            <a:ext cx="7010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2362320"/>
            <a:ext cx="6705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ff"/>
                </a:solidFill>
                <a:latin typeface="Arial"/>
              </a:rPr>
              <a:t>what happens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743200" y="762120"/>
            <a:ext cx="4959360" cy="35780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95400" y="365040"/>
            <a:ext cx="23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Click on the ca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4495680"/>
            <a:ext cx="65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The ice was slippery and the man fe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838080" y="45720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5" h="21600">
                <a:moveTo>
                  <a:pt x="2159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185" h="21600">
                <a:moveTo>
                  <a:pt x="22698" y="14281"/>
                </a:moveTo>
                <a:lnTo>
                  <a:pt x="22698" y="12323"/>
                </a:lnTo>
                <a:cubicBezTo>
                  <a:pt x="22698" y="11496"/>
                  <a:pt x="23029" y="10800"/>
                  <a:pt x="23629" y="10800"/>
                </a:cubicBezTo>
                <a:cubicBezTo>
                  <a:pt x="24761" y="10800"/>
                  <a:pt x="25657" y="9434"/>
                  <a:pt x="25657" y="7849"/>
                </a:cubicBezTo>
                <a:cubicBezTo>
                  <a:pt x="25657" y="5534"/>
                  <a:pt x="23803" y="3794"/>
                  <a:pt x="21593" y="3794"/>
                </a:cubicBezTo>
                <a:cubicBezTo>
                  <a:pt x="19382" y="3794"/>
                  <a:pt x="17711" y="5534"/>
                  <a:pt x="17711" y="7849"/>
                </a:cubicBezTo>
                <a:lnTo>
                  <a:pt x="19565" y="7849"/>
                </a:lnTo>
                <a:cubicBezTo>
                  <a:pt x="19565" y="6709"/>
                  <a:pt x="20487" y="5821"/>
                  <a:pt x="21593" y="5821"/>
                </a:cubicBezTo>
                <a:cubicBezTo>
                  <a:pt x="22698" y="5821"/>
                  <a:pt x="23629" y="6709"/>
                  <a:pt x="23629" y="7849"/>
                </a:cubicBezTo>
                <a:cubicBezTo>
                  <a:pt x="23629" y="8589"/>
                  <a:pt x="23159" y="9320"/>
                  <a:pt x="22698" y="9320"/>
                </a:cubicBezTo>
                <a:cubicBezTo>
                  <a:pt x="21593" y="9320"/>
                  <a:pt x="20487" y="10800"/>
                  <a:pt x="20487" y="12323"/>
                </a:cubicBezTo>
                <a:lnTo>
                  <a:pt x="20487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5257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5" h="21600">
                <a:moveTo>
                  <a:pt x="2159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185" h="21600">
                <a:moveTo>
                  <a:pt x="22698" y="14281"/>
                </a:moveTo>
                <a:lnTo>
                  <a:pt x="22698" y="12323"/>
                </a:lnTo>
                <a:cubicBezTo>
                  <a:pt x="22698" y="11496"/>
                  <a:pt x="23029" y="10800"/>
                  <a:pt x="23629" y="10800"/>
                </a:cubicBezTo>
                <a:cubicBezTo>
                  <a:pt x="24761" y="10800"/>
                  <a:pt x="25657" y="9434"/>
                  <a:pt x="25657" y="7849"/>
                </a:cubicBezTo>
                <a:cubicBezTo>
                  <a:pt x="25657" y="5534"/>
                  <a:pt x="23803" y="3794"/>
                  <a:pt x="21593" y="3794"/>
                </a:cubicBezTo>
                <a:cubicBezTo>
                  <a:pt x="19382" y="3794"/>
                  <a:pt x="17711" y="5534"/>
                  <a:pt x="17711" y="7849"/>
                </a:cubicBezTo>
                <a:lnTo>
                  <a:pt x="19565" y="7849"/>
                </a:lnTo>
                <a:cubicBezTo>
                  <a:pt x="19565" y="6709"/>
                  <a:pt x="20487" y="5821"/>
                  <a:pt x="21593" y="5821"/>
                </a:cubicBezTo>
                <a:cubicBezTo>
                  <a:pt x="22698" y="5821"/>
                  <a:pt x="23629" y="6709"/>
                  <a:pt x="23629" y="7849"/>
                </a:cubicBezTo>
                <a:cubicBezTo>
                  <a:pt x="23629" y="8589"/>
                  <a:pt x="23159" y="9320"/>
                  <a:pt x="22698" y="9320"/>
                </a:cubicBezTo>
                <a:cubicBezTo>
                  <a:pt x="21593" y="9320"/>
                  <a:pt x="20487" y="10800"/>
                  <a:pt x="20487" y="12323"/>
                </a:cubicBezTo>
                <a:lnTo>
                  <a:pt x="20487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-609480" y="3276720"/>
          <a:ext cx="60948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09480" y="3276720"/>
                    <a:ext cx="609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318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886200" y="0"/>
            <a:ext cx="3632040" cy="48006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197720" y="3888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Click on the eff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4724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He floated to the ground because of the parachut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304920" y="47242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761" h="21600">
                <a:moveTo>
                  <a:pt x="14986" y="14281"/>
                </a:moveTo>
                <a:lnTo>
                  <a:pt x="14986" y="12323"/>
                </a:lnTo>
                <a:cubicBezTo>
                  <a:pt x="14986" y="11496"/>
                  <a:pt x="15317" y="10800"/>
                  <a:pt x="15917" y="10800"/>
                </a:cubicBezTo>
                <a:cubicBezTo>
                  <a:pt x="17049" y="10800"/>
                  <a:pt x="17945" y="9434"/>
                  <a:pt x="17945" y="7849"/>
                </a:cubicBezTo>
                <a:cubicBezTo>
                  <a:pt x="17945" y="5534"/>
                  <a:pt x="16091" y="3794"/>
                  <a:pt x="13881" y="3794"/>
                </a:cubicBezTo>
                <a:cubicBezTo>
                  <a:pt x="11670" y="3794"/>
                  <a:pt x="9999" y="5534"/>
                  <a:pt x="9999" y="7849"/>
                </a:cubicBezTo>
                <a:lnTo>
                  <a:pt x="11853" y="7849"/>
                </a:lnTo>
                <a:cubicBezTo>
                  <a:pt x="11853" y="6709"/>
                  <a:pt x="12775" y="5821"/>
                  <a:pt x="13881" y="5821"/>
                </a:cubicBezTo>
                <a:cubicBezTo>
                  <a:pt x="14986" y="5821"/>
                  <a:pt x="15917" y="6709"/>
                  <a:pt x="15917" y="7849"/>
                </a:cubicBezTo>
                <a:cubicBezTo>
                  <a:pt x="15917" y="8589"/>
                  <a:pt x="15447" y="9320"/>
                  <a:pt x="14986" y="9320"/>
                </a:cubicBezTo>
                <a:cubicBezTo>
                  <a:pt x="13881" y="9320"/>
                  <a:pt x="12775" y="10800"/>
                  <a:pt x="12775" y="12323"/>
                </a:cubicBezTo>
                <a:lnTo>
                  <a:pt x="1277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54100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761" h="21600">
                <a:moveTo>
                  <a:pt x="14986" y="14281"/>
                </a:moveTo>
                <a:lnTo>
                  <a:pt x="14986" y="12323"/>
                </a:lnTo>
                <a:cubicBezTo>
                  <a:pt x="14986" y="11496"/>
                  <a:pt x="15317" y="10800"/>
                  <a:pt x="15917" y="10800"/>
                </a:cubicBezTo>
                <a:cubicBezTo>
                  <a:pt x="17049" y="10800"/>
                  <a:pt x="17945" y="9434"/>
                  <a:pt x="17945" y="7849"/>
                </a:cubicBezTo>
                <a:cubicBezTo>
                  <a:pt x="17945" y="5534"/>
                  <a:pt x="16091" y="3794"/>
                  <a:pt x="13881" y="3794"/>
                </a:cubicBezTo>
                <a:cubicBezTo>
                  <a:pt x="11670" y="3794"/>
                  <a:pt x="9999" y="5534"/>
                  <a:pt x="9999" y="7849"/>
                </a:cubicBezTo>
                <a:lnTo>
                  <a:pt x="11853" y="7849"/>
                </a:lnTo>
                <a:cubicBezTo>
                  <a:pt x="11853" y="6709"/>
                  <a:pt x="12775" y="5821"/>
                  <a:pt x="13881" y="5821"/>
                </a:cubicBezTo>
                <a:cubicBezTo>
                  <a:pt x="14986" y="5821"/>
                  <a:pt x="15917" y="6709"/>
                  <a:pt x="15917" y="7849"/>
                </a:cubicBezTo>
                <a:cubicBezTo>
                  <a:pt x="15917" y="8589"/>
                  <a:pt x="15447" y="9320"/>
                  <a:pt x="14986" y="9320"/>
                </a:cubicBezTo>
                <a:cubicBezTo>
                  <a:pt x="13881" y="9320"/>
                  <a:pt x="12775" y="10800"/>
                  <a:pt x="12775" y="12323"/>
                </a:cubicBezTo>
                <a:lnTo>
                  <a:pt x="1277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-380880" y="2666880"/>
          <a:ext cx="75960" cy="7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0880" y="2666880"/>
                    <a:ext cx="75960" cy="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334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">
            <a:hlinkClick r:id="" action="ppaction://hlinkshowjump?jump=nextslide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42991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04920" y="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Arial"/>
              </a:rPr>
              <a:t>Write your own cause effect sent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mph" presetID="26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50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2500" autoRev="1" fill="hold"/>
                                        <p:tgtEl>
                                          <p:spTgt spid="1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3832200" cy="5715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029200" y="228600"/>
            <a:ext cx="3581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little girl was sleepy, so she sat on her mother’s la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487692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 Black"/>
              </a:rPr>
              <a:t>What is the caus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510552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 Black"/>
              </a:rPr>
              <a:t>What is the effec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4280" y="0"/>
            <a:ext cx="4114800" cy="1752480"/>
          </a:xfrm>
          <a:prstGeom prst="ellipse">
            <a:avLst/>
          </a:prstGeom>
          <a:noFill/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1523880"/>
            <a:ext cx="4648320" cy="3124440"/>
          </a:xfrm>
          <a:prstGeom prst="ellipse">
            <a:avLst/>
          </a:prstGeom>
          <a:noFill/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35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350"/>
                            </p:stCondLst>
                            <p:childTnLst>
                              <p:par>
                                <p:cTn id="16" nodeType="afterEffect" fill="hold" presetClass="entr" presetID="3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xit" presetID="52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000"/>
                            </p:stCondLst>
                            <p:childTnLst>
                              <p:par>
                                <p:cTn id="49" nodeType="afterEffect" fill="hold" presetClass="entr" presetID="3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3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46440" y="0"/>
            <a:ext cx="45975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2895480"/>
            <a:ext cx="4114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The boy was hungry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so he planted</a:t>
            </a:r>
            <a:r>
              <a:rPr b="1" lang="en-US" sz="40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cor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00600" y="274320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USE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666880"/>
            <a:ext cx="4572000" cy="167652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876920" y="4495680"/>
            <a:ext cx="4267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FFECT?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419720"/>
            <a:ext cx="4495680" cy="160020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-914400" y="2971800"/>
          <a:ext cx="91440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914400" y="2971800"/>
                    <a:ext cx="914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-914400" y="4876920"/>
          <a:ext cx="91440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914400" y="4876920"/>
                    <a:ext cx="914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" nodeType="afterEffect" fill="hold" presetClass="entr" presetID="4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verb" presetID="0">
                                  <p:stCondLst>
                                    <p:cond delay="5000"/>
                                  </p:stCondLst>
                                  <p:childTnLst>
                                    <p:cmd type="call" cmd="">
                                      <p:cBhvr>
                                        <p:cTn id="107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4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verb" presetID="0">
                                  <p:stCondLst>
                                    <p:cond delay="5000"/>
                                  </p:stCondLst>
                                  <p:childTnLst>
                                    <p:cmd type="call" cmd="">
                                      <p:cBhvr>
                                        <p:cTn id="127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3819600" cy="5697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-609480" y="3048120"/>
          <a:ext cx="60948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09480" y="3048120"/>
                    <a:ext cx="609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0" y="1600200"/>
            <a:ext cx="266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ff"/>
                </a:solidFill>
                <a:latin typeface="Arial"/>
              </a:rPr>
              <a:t>The baby laugh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1676520"/>
            <a:ext cx="2590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ff"/>
                </a:solidFill>
                <a:latin typeface="Arial"/>
              </a:rPr>
              <a:t>because she liked her to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920" y="571500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FFECT?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172200" y="5791320"/>
            <a:ext cx="2666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USE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676520"/>
            <a:ext cx="2590920" cy="13716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1828800"/>
            <a:ext cx="2590920" cy="19051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600"/>
                            </p:stCondLst>
                            <p:childTnLst>
                              <p:par>
                                <p:cTn id="145" nodeType="after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146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600"/>
                            </p:stCondLst>
                            <p:childTnLst>
                              <p:par>
                                <p:cTn id="14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520"/>
                            </p:stCondLst>
                            <p:childTnLst>
                              <p:par>
                                <p:cTn id="154" nodeType="after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520"/>
                            </p:stCondLst>
                            <p:childTnLst>
                              <p:par>
                                <p:cTn id="1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93 0.57569 C 0.06996 0.58241 0.09774 0.5794 0.1342 0.57801 C 0.14496 0.56898 0.15677 0.56273 0.16805 0.55509 C 0.17708 0.54861 0.18646 0.53727 0.19461 0.52963 C 0.19705 0.52731 0.19809 0.52338 0.20034 0.5206 C 0.21128 0.50579 0.22326 0.49167 0.2342 0.47708 C 0.25156 0.45393 0.27083 0.43426 0.29097 0.41505 C 0.29166 0.41435 0.30312 0.40301 0.30607 0.40139 C 0.31892 0.39444 0.33264 0.38935 0.34583 0.3831 C 0.35399 0.37893 0.36146 0.37431 0.37048 0.37176 C 0.38889 0.36042 0.37517 0.36736 0.41389 0.36227 C 0.41909 0.36157 0.4309 0.36018 0.4309 0.36042 C 0.43819 0.35764 0.44409 0.35324 0.45156 0.35093 C 0.4585 0.34884 0.46545 0.34768 0.47205 0.3463 C 0.47673 0.3419 0.48298 0.33935 0.48715 0.33472 C 0.49305 0.32917 0.49722 0.32268 0.50243 0.31643 C 0.50434 0.31435 0.5085 0.30972 0.5085 0.30995 C 0.52847 0.25995 0.50347 0.21921 0.48385 0.17893 C 0.47656 0.16528 0.46666 0.14282 0.45364 0.13542 C 0.421 0.1169 0.37691 0.12268 0.34392 0.12153 C 0.33125 0.12245 0.3184 0.12106 0.30607 0.12384 C 0.29271 0.12708 0.27552 0.16181 0.27014 0.17431 C 0.26961 0.17731 0.2684 0.18032 0.2684 0.18356 C 0.2684 0.21065 0.27343 0.2125 0.29288 0.22014 C 0.296 0.21968 0.3125 0.21806 0.31753 0.21551 C 0.33802 0.20579 0.34809 0.18819 0.36093 0.16736 C 0.36632 0.15856 0.37257 0.15116 0.37795 0.14236 C 0.38073 0.13796 0.38559 0.12847 0.38559 0.1287 C 0.38836 0.11435 0.39166 0.10093 0.39514 0.08704 C 0.396 0.07523 0.39652 0.05995 0.40069 0.04815 C 0.40503 0.03542 0.4151 0.02708 0.42326 0.01829 C 0.43889 0.00162 0.45659 -0.01505 0.47812 -0.0206 C 0.49722 -0.02569 0.50677 -0.02569 0.52725 -0.02755 C 0.54062 -0.02662 0.55399 -0.02801 0.56701 -0.02523 C 0.57534 -0.02338 0.56823 0.00162 0.56319 0.00694 C 0.53923 0.03333 0.52413 0.04028 0.49132 0.04583 C 0.41875 0.04468 0.35069 0.04537 0.27968 0.03889 C 0.27014 0.03518 0.26024 0.03356 0.25139 0.02755 C 0.23229 0.01458 0.26771 0.03657 0.2342 0.00903 C 0.21736 -0.00463 0.20694 -0.02847 0.19271 -0.04583 C 0.18211 -0.05857 0.1585 -0.07639 0.14357 -0.08032 C 0.13107 -0.08357 0.1184 -0.08472 0.10573 -0.08704 C 0.09618 -0.09074 0.08698 -0.09352 0.07743 -0.0963 C 0.0717 -0.0956 0.0658 -0.09514 0.06024 -0.09398 C 0.05277 -0.09236 0.04635 -0.08657 0.03958 -0.08241 C 0.02083 -0.07083 0.00781 -0.04815 0.00364 -0.02292 C 0.00295 -0.01806 3.33333E-006 -0.00602 3.33333E-006 3.7037E-007 E">
                                      <p:cBhvr>
                                        <p:cTn id="16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520"/>
                            </p:stCondLst>
                            <p:childTnLst>
                              <p:par>
                                <p:cTn id="164" nodeType="after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3520"/>
                            </p:stCondLst>
                            <p:childTnLst>
                              <p:par>
                                <p:cTn id="171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11215 0.50393 C -0.11615 0.50208 -0.12014 0.50046 -0.12413 0.49861 C -0.12604 0.49768 -0.13004 0.49606 -0.13004 0.49606 C -0.14792 0.48101 -0.16632 0.46851 -0.18403 0.45324 C -0.19028 0.44791 -0.23316 0.4368 -0.2401 0.43472 C -0.26042 0.41666 -0.27448 0.39166 -0.28819 0.36527 C -0.30816 0.32708 -0.32465 0.29444 -0.3401 0.25324 C -0.34132 0.24699 -0.3441 0.2412 -0.3441 0.23472 C -0.3441 0.22662 -0.3441 0.21828 -0.34201 0.21064 C -0.33872 0.19745 -0.32031 0.19143 -0.31215 0.18935 C -0.25816 0.19282 -0.20885 0.19629 -0.15608 0.2081 C -0.13993 0.21875 -0.14028 0.21689 -0.13004 0.23726 C -0.12743 0.24259 -0.11806 0.24791 -0.11806 0.24791 C -0.10938 0.24699 -0.10035 0.24838 -0.09201 0.24537 C -0.08299 0.24213 -0.08872 0.21967 -0.09201 0.2081 C -0.09774 0.18773 -0.11476 0.18865 -0.12813 0.18402 C -0.18594 0.16365 -0.24497 0.15972 -0.30417 0.1493 C -0.32656 0.14537 -0.37222 0.14143 -0.37222 0.14143 C -0.38819 0.14236 -0.40417 0.14166 -0.42014 0.14398 C -0.42917 0.14537 -0.43438 0.17754 -0.43802 0.18402 C -0.44514 0.19676 -0.45191 0.21342 -0.46406 0.21875 C -0.47049 0.22152 -0.47743 0.22222 -0.48403 0.22407 C -0.51059 0.22199 -0.5283 0.2206 -0.55208 0.2081 C -0.56389 0.19166 -0.5559 0.16736 -0.5441 0.15463 C -0.53333 0.14282 -0.54358 0.14907 -0.53004 0.14398 C -0.52813 0.14328 -0.52205 0.14143 -0.52413 0.14143 C -0.52813 0.14143 -0.53229 0.14351 -0.53611 0.14398 C -0.54549 0.14513 -0.55469 0.1456 -0.56406 0.14676 C -0.5776 0.14838 -0.59063 0.15092 -0.60399 0.15208 C -0.61997 0.15347 -0.63611 0.1537 -0.65208 0.15463 C -0.75486 0.16643 -0.71354 0.16018 -0.77604 0.1706 C -0.77847 0.17199 -0.78958 0.17662 -0.79201 0.18125 C -0.79757 0.19166 -0.79861 0.20926 -0.8 0.22129 C -0.7974 0.24282 -0.79392 0.26643 -0.77604 0.27476 C -0.76701 0.27893 -0.75747 0.28009 -0.74809 0.28263 C -0.7026 0.27893 -0.64722 0.30301 -0.62813 0.24004 C -0.62986 0.19305 -0.62292 0.17407 -0.65399 0.1574 C -0.70938 0.16527 -0.71875 0.16782 -0.76615 0.19467 C -0.76944 0.2 -0.77344 0.20463 -0.77604 0.21064 C -0.78385 0.22801 -0.76979 0.24467 -0.76007 0.25324 C -0.7191 0.24745 -0.7599 0.25763 -0.73212 0.24004 C -0.72309 0.23426 -0.71337 0.23101 -0.70399 0.22662 C -0.6967 0.21689 -0.68576 0.21018 -0.68212 0.19722 C -0.67031 0.1537 -0.66771 0.15115 -0.6441 0.12268 C -0.64063 0.11851 -0.63837 0.11203 -0.63403 0.10926 C -0.62379 0.10277 -0.5783 0.09051 -0.57014 0.08796 C -0.51563 0.07083 -0.46094 0.05555 -0.40608 0.04004 C -0.37101 0.01643 -0.3184 0.01458 -0.27813 0.01064 C -0.27101 0.01157 -0.26319 0.01064 -0.25608 0.01342 C -0.23889 0.0199 -0.26354 0.02847 -0.2401 0.01597 C -0.23038 -0.00093 -0.22535 -0.01644 -0.22222 -0.03727 C -0.22483 -0.05556 -0.22882 -0.07037 -0.23229 -0.08797 C -0.23194 -0.09028 -0.23004 -0.12292 -0.22413 -0.13079 C -0.19809 -0.16551 -0.15972 -0.18218 -0.12413 -0.18936 C -0.11146 -0.18843 -0.09879 -0.18866 -0.08611 -0.18658 C -0.07326 -0.18449 -0.05521 -0.1588 -0.04601 -0.14676 C -0.04462 -0.13936 -0.04149 -0.13264 -0.0401 -0.12524 C -0.03872 -0.11737 -0.03872 -0.10926 -0.03802 -0.10139 C -0.03715 -0.08172 -0.04063 -0.06019 -0.03403 -0.0426 C -0.02951 -0.03033 -0.02431 -0.02292 -0.01615 -0.01598 C -0.00955 -0.01042 -0.00382 -0.00973 3.88889E-006 -3.7037E-007 E">
                                      <p:cBhvr>
                                        <p:cTn id="17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715000" cy="3794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09480" y="36576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cc"/>
                </a:solidFill>
                <a:latin typeface="Arial"/>
              </a:rPr>
              <a:t>He broke a class rule, so he had to write sentences on the boa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3733920"/>
            <a:ext cx="4572000" cy="5331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2" action="ppaction://hlinksldjump"/>
          </p:cNvPr>
          <p:cNvSpPr/>
          <p:nvPr/>
        </p:nvSpPr>
        <p:spPr>
          <a:xfrm>
            <a:off x="2133720" y="5715000"/>
            <a:ext cx="1523880" cy="685800"/>
          </a:xfrm>
          <a:custGeom>
            <a:avLst/>
            <a:gdLst>
              <a:gd name="textAreaLeft" fmla="*/ 44280 w 1523880"/>
              <a:gd name="textAreaRight" fmla="*/ 1479600 w 1523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7982" h="21600">
                <a:moveTo>
                  <a:pt x="0" y="0"/>
                </a:moveTo>
                <a:lnTo>
                  <a:pt x="47982" y="0"/>
                </a:lnTo>
                <a:lnTo>
                  <a:pt x="47982" y="21600"/>
                </a:lnTo>
                <a:lnTo>
                  <a:pt x="0" y="21600"/>
                </a:lnTo>
                <a:close/>
              </a:path>
              <a:path fill="lightenLess" w="47982" h="21600">
                <a:moveTo>
                  <a:pt x="0" y="0"/>
                </a:moveTo>
                <a:lnTo>
                  <a:pt x="47982" y="0"/>
                </a:lnTo>
                <a:lnTo>
                  <a:pt x="46582" y="1400"/>
                </a:lnTo>
                <a:lnTo>
                  <a:pt x="1400" y="1400"/>
                </a:lnTo>
                <a:close/>
              </a:path>
              <a:path fill="darken" w="47982" h="21600">
                <a:moveTo>
                  <a:pt x="47982" y="0"/>
                </a:moveTo>
                <a:lnTo>
                  <a:pt x="47982" y="21600"/>
                </a:lnTo>
                <a:lnTo>
                  <a:pt x="46582" y="20200"/>
                </a:lnTo>
                <a:lnTo>
                  <a:pt x="46582" y="1400"/>
                </a:lnTo>
                <a:close/>
              </a:path>
              <a:path fill="darkenLess" w="47982" h="21600">
                <a:moveTo>
                  <a:pt x="47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582" y="20200"/>
                </a:lnTo>
                <a:close/>
              </a:path>
              <a:path fill="lighten" w="47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3" action="ppaction://hlinksldjump"/>
          </p:cNvPr>
          <p:cNvSpPr/>
          <p:nvPr/>
        </p:nvSpPr>
        <p:spPr>
          <a:xfrm>
            <a:off x="5105520" y="5715000"/>
            <a:ext cx="1523880" cy="685800"/>
          </a:xfrm>
          <a:custGeom>
            <a:avLst/>
            <a:gdLst>
              <a:gd name="textAreaLeft" fmla="*/ 44280 w 1523880"/>
              <a:gd name="textAreaRight" fmla="*/ 1479600 w 1523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7982" h="21600">
                <a:moveTo>
                  <a:pt x="0" y="0"/>
                </a:moveTo>
                <a:lnTo>
                  <a:pt x="47982" y="0"/>
                </a:lnTo>
                <a:lnTo>
                  <a:pt x="47982" y="21600"/>
                </a:lnTo>
                <a:lnTo>
                  <a:pt x="0" y="21600"/>
                </a:lnTo>
                <a:close/>
              </a:path>
              <a:path fill="lightenLess" w="47982" h="21600">
                <a:moveTo>
                  <a:pt x="0" y="0"/>
                </a:moveTo>
                <a:lnTo>
                  <a:pt x="47982" y="0"/>
                </a:lnTo>
                <a:lnTo>
                  <a:pt x="46582" y="1400"/>
                </a:lnTo>
                <a:lnTo>
                  <a:pt x="1400" y="1400"/>
                </a:lnTo>
                <a:close/>
              </a:path>
              <a:path fill="darken" w="47982" h="21600">
                <a:moveTo>
                  <a:pt x="47982" y="0"/>
                </a:moveTo>
                <a:lnTo>
                  <a:pt x="47982" y="21600"/>
                </a:lnTo>
                <a:lnTo>
                  <a:pt x="46582" y="20200"/>
                </a:lnTo>
                <a:lnTo>
                  <a:pt x="46582" y="1400"/>
                </a:lnTo>
                <a:close/>
              </a:path>
              <a:path fill="darkenLess" w="47982" h="21600">
                <a:moveTo>
                  <a:pt x="47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582" y="20200"/>
                </a:lnTo>
                <a:close/>
              </a:path>
              <a:path fill="lighten" w="47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5867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5791320"/>
            <a:ext cx="121932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51814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HICH PART OF THE SENTENCE IS BOX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-609480" y="2895480"/>
          <a:ext cx="380880" cy="38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609480" y="2895480"/>
                    <a:ext cx="3808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178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219320" y="1143000"/>
            <a:ext cx="6705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JOB  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T'S RIGHT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6781680" y="56386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66" h="21600">
                <a:moveTo>
                  <a:pt x="17826" y="3794"/>
                </a:moveTo>
                <a:lnTo>
                  <a:pt x="31839" y="10800"/>
                </a:lnTo>
                <a:lnTo>
                  <a:pt x="178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 rot="20288400">
            <a:off x="1143000" y="1143000"/>
            <a:ext cx="8381880" cy="31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7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SORRY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WRONG ANSWER...TRY AGAIN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3657600" y="5486400"/>
            <a:ext cx="2133720" cy="914400"/>
          </a:xfrm>
          <a:custGeom>
            <a:avLst/>
            <a:gdLst>
              <a:gd name="textAreaLeft" fmla="*/ 59040 w 2133720"/>
              <a:gd name="textAreaRight" fmla="*/ 2074680 w 2133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0391" h="21600">
                <a:moveTo>
                  <a:pt x="0" y="0"/>
                </a:moveTo>
                <a:lnTo>
                  <a:pt x="50391" y="0"/>
                </a:lnTo>
                <a:lnTo>
                  <a:pt x="50391" y="21600"/>
                </a:lnTo>
                <a:lnTo>
                  <a:pt x="0" y="21600"/>
                </a:lnTo>
                <a:close/>
              </a:path>
              <a:path fill="lightenLess" w="50391" h="21600">
                <a:moveTo>
                  <a:pt x="0" y="0"/>
                </a:moveTo>
                <a:lnTo>
                  <a:pt x="50391" y="0"/>
                </a:lnTo>
                <a:lnTo>
                  <a:pt x="48991" y="1400"/>
                </a:lnTo>
                <a:lnTo>
                  <a:pt x="1400" y="1400"/>
                </a:lnTo>
                <a:close/>
              </a:path>
              <a:path fill="darken" w="50391" h="21600">
                <a:moveTo>
                  <a:pt x="50391" y="0"/>
                </a:moveTo>
                <a:lnTo>
                  <a:pt x="50391" y="21600"/>
                </a:lnTo>
                <a:lnTo>
                  <a:pt x="48991" y="20200"/>
                </a:lnTo>
                <a:lnTo>
                  <a:pt x="48991" y="1400"/>
                </a:lnTo>
                <a:close/>
              </a:path>
              <a:path fill="darkenLess" w="50391" h="21600">
                <a:moveTo>
                  <a:pt x="50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91" y="20200"/>
                </a:lnTo>
                <a:close/>
              </a:path>
              <a:path fill="lighten" w="50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91" h="21600">
                <a:moveTo>
                  <a:pt x="18189" y="10800"/>
                </a:moveTo>
                <a:lnTo>
                  <a:pt x="32202" y="3794"/>
                </a:lnTo>
                <a:lnTo>
                  <a:pt x="3220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94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19:10:10Z</dcterms:created>
  <dc:creator>Golden Acres</dc:creator>
  <dc:description/>
  <dc:language>en-US</dc:language>
  <cp:lastModifiedBy>jcps</cp:lastModifiedBy>
  <dcterms:modified xsi:type="dcterms:W3CDTF">2009-01-12T15:17:53Z</dcterms:modified>
  <cp:revision>15</cp:revision>
  <dc:subject/>
  <dc:title>Cause / Effect</dc:title>
</cp:coreProperties>
</file>